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EAC-153E-4664-945A-DFE78038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D63-1098-4507-A4B8-027D3320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67D-79B7-435C-9EBD-1F30322F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103-B2D8-472D-867F-EA1BA04E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13D-0A35-45C3-A30A-E911F4B1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99B-DA2E-4E56-8CB1-8FA7B2D8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D70-77EE-4DCD-9A13-308EBB8A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C8D-B79B-4C76-8771-F80D99EF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391-F2B8-4623-9D56-B5E43E17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B42-2496-4CA2-84C2-D6D5AE62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C68-BD3A-4D92-A19A-B4238FD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D9B-5D98-4382-A560-956A8CC5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70A6-BC70-4011-8B87-F985F7352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80988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308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48320" y="3467160"/>
            <a:ext cx="4114800" cy="308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3809880" cy="2552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143000" y="3505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okly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2514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razano Narrows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lau Via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ro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8862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" name="" descr="The George P. Coleman Bridge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273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920" y="3048120"/>
            <a:ext cx="373356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0" y="3124080"/>
            <a:ext cx="3962520" cy="357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914400" y="2362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oma Narrows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25146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P. Colema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sapeake Bay Bridge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32004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shi Kaikyo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2:18:42Z</dcterms:created>
  <dc:creator>Teacher</dc:creator>
  <dc:description/>
  <dc:language>en-US</dc:language>
  <cp:lastModifiedBy>Teacher</cp:lastModifiedBy>
  <dcterms:modified xsi:type="dcterms:W3CDTF">2009-02-04T23:20:06Z</dcterms:modified>
  <cp:revision>2</cp:revision>
  <dc:subject/>
  <dc:title>Slide 1</dc:title>
</cp:coreProperties>
</file>