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B921C-2C67-4436-8F67-0D9D7B023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7FE87-D759-4FC6-B831-55FB2E4CA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FCD98-173B-487E-892C-B3BC8A5EC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1DE60-AA2C-46DD-A3B3-A35635234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E2AAD-3D1C-4B33-BC06-C0AF77DE1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D84FD-943C-4438-95ED-C244ED70A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96325-4E21-44FB-AE2D-7E3DBED45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8ABC0-CDA3-4308-8FC1-18A500FAA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83214-A22B-43C6-83B4-978F76684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F2F0D-ECC0-4AB1-AD89-F70D176E1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4A9EA-24D5-4A33-9001-2CB0BE1A8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4054B-5F61-4CF0-BDA0-8E69CFD9D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A3A94-5D9E-4809-B3BA-254B3404B3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3809880" cy="37018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4572000" y="228600"/>
            <a:ext cx="4114800" cy="30877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4648320" y="3467160"/>
            <a:ext cx="4114800" cy="30859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04920" y="4114800"/>
            <a:ext cx="3809880" cy="25527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45" name=""/>
          <p:cNvSpPr/>
          <p:nvPr/>
        </p:nvSpPr>
        <p:spPr>
          <a:xfrm>
            <a:off x="1143000" y="350532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rooklyn Brid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181480" y="2514600"/>
            <a:ext cx="312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rrazano Narrows Brid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295280" y="63244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illau Viadu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563868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ron Brid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3886200" cy="29145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50" name="" descr="The George P. Coleman Bridge"/>
          <p:cNvPicPr/>
          <p:nvPr/>
        </p:nvPicPr>
        <p:blipFill>
          <a:blip r:embed="rId2"/>
          <a:stretch/>
        </p:blipFill>
        <p:spPr>
          <a:xfrm>
            <a:off x="4572000" y="228600"/>
            <a:ext cx="4114800" cy="27352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304920" y="3048120"/>
            <a:ext cx="3733560" cy="35812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4572000" y="3124080"/>
            <a:ext cx="3962520" cy="35737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3" name=""/>
          <p:cNvSpPr/>
          <p:nvPr/>
        </p:nvSpPr>
        <p:spPr>
          <a:xfrm>
            <a:off x="914400" y="2362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acoma Narrows Brid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029200" y="251460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orge P. Coleman Brid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320040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esapeake Bay Bridge Tun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3200400"/>
            <a:ext cx="32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kashi Kaikyo Brid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4T22:18:42Z</dcterms:created>
  <dc:creator>Teacher</dc:creator>
  <dc:description/>
  <dc:language>en-US</dc:language>
  <cp:lastModifiedBy>Teacher</cp:lastModifiedBy>
  <dcterms:modified xsi:type="dcterms:W3CDTF">2009-02-04T23:20:06Z</dcterms:modified>
  <cp:revision>2</cp:revision>
  <dc:subject/>
  <dc:title>Slide 1</dc:title>
</cp:coreProperties>
</file>