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257-E504-438E-9A51-0F14C2DF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295-0A7C-4CDA-ABD7-EE2E67B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893-7DDB-496E-8ED8-61E55F5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3C8-B5B1-428F-B47B-9EF71D98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C71-2FC2-4B5D-9541-24C2875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F26-A331-47C1-BA33-EE06F21E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2C5-D722-41BB-9F19-3302DE04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8E7-CA84-4E67-90DE-E7669080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FBD-68CF-452E-93D1-A8D6103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AE4-A1E7-4A22-844A-E0CEB58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120-991D-4448-B8BC-4950C18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173-6608-429A-BDC9-E75ABF3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BD9C-54BC-4E57-9838-AD3971CC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80988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30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8320" y="3467160"/>
            <a:ext cx="4114800" cy="308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3809880" cy="2552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1430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okly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14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razano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au Via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ro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8862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" descr="The George P. Coleman Bridge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27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37335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124080"/>
            <a:ext cx="3962520" cy="357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14400" y="2362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oma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514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P. Colema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sapeake Bay Bridge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2004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shi Kaikyo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18:42Z</dcterms:created>
  <dc:creator>Teacher</dc:creator>
  <dc:description/>
  <dc:language>en-US</dc:language>
  <cp:lastModifiedBy>Teacher</cp:lastModifiedBy>
  <dcterms:modified xsi:type="dcterms:W3CDTF">2009-02-04T23:20:06Z</dcterms:modified>
  <cp:revision>2</cp:revision>
  <dc:subject/>
  <dc:title>Slide 1</dc:title>
</cp:coreProperties>
</file>