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1EA-A79F-4C6F-A16F-5BC4E23B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4FE-3D96-4A9A-BD20-B95FF999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AFB-A39E-4E1E-8678-CAAF8C46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DE6-5408-4FF6-AB38-757C426F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B25-C430-4052-BB8A-9A0A543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B2E-A58C-4001-9AEB-B77F85BD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822-22BD-4953-8B29-B644ABD8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E3F-66F8-4F3F-B362-156EBBD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618-8FE7-4D78-B814-DAEEB4A2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84E-A8A8-49AE-A957-DFCABA8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E78-5BD1-46BC-871F-D0F19C1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36C-2127-4FA7-BAD7-63D8B0D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108A-B694-4AAB-B282-55A490F1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80988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30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8320" y="3467160"/>
            <a:ext cx="4114800" cy="308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3809880" cy="2552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1430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okly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14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razano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au Via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ro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8862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" descr="The George P. Coleman Bridge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27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37335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124080"/>
            <a:ext cx="3962520" cy="357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14400" y="2362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oma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514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P. Colema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sapeake Bay Bridge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2004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shi Kaikyo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18:42Z</dcterms:created>
  <dc:creator>Teacher</dc:creator>
  <dc:description/>
  <dc:language>en-US</dc:language>
  <cp:lastModifiedBy>Teacher</cp:lastModifiedBy>
  <dcterms:modified xsi:type="dcterms:W3CDTF">2009-02-04T23:20:06Z</dcterms:modified>
  <cp:revision>2</cp:revision>
  <dc:subject/>
  <dc:title>Slide 1</dc:title>
</cp:coreProperties>
</file>